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EB9-95B7-470D-909C-36B83645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19F-E491-444F-B846-45418AF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A23C5-5A9B-47A2-8604-FDB4B6F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CCA99-237E-45EA-BC4C-F367BAFD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23E7-42C6-4B6B-8E5F-71160F9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63C7F-2D39-4082-AA47-305730B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0D2C2-C382-4908-BCA0-709984B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32FCA-6A48-441F-99BF-42F6093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EFFA2-516A-47C6-8788-7E9CB8BA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04AE5-E4AD-4F4D-91A2-A0A76A48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1AA61-FF41-4B48-822C-8D80D2B1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59D10-18A2-4FCC-B2BD-76EA0AA2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5D8-D104-4B6C-893A-F1C51DAF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62ED4-722B-41F4-9481-7E2F4D0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9E388-619E-436F-8120-50F4E2D9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20C88-2C09-4A3E-9250-54593C0B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FB398-2BBD-46C7-8173-F3E49B0A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26FF6-86AB-41E6-9A78-B323D74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43F60-4006-4F5A-BF08-4479E9C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F0A1-3BD4-408E-9A07-DF9B6C7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AC97B-A489-4FCD-970B-8DB7FCA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217F1-FE98-44E1-9B15-CAA3594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D2B0B-D50F-4041-9315-E8E56D9E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C92-FC40-4424-B1BB-295CE1D1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B4BFF-B911-4189-B5C8-B72B9D9D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76A35-2650-4BBB-8861-8BD50E9F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112FE-8DE5-463D-8843-F25F7531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306CF-C8E5-4480-A0C2-C046C1D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DCA79-8695-424C-9F19-9C937661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F052-F8A8-4009-822C-BF31DF8B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B79E2-A2EC-4551-9C83-BDA195EB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66367-9D23-4E47-8ACE-3BE704F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221D-4EBD-4166-AC97-5F4F2A8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C97DB-32AF-422E-9093-3355F8B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38D-402C-49CD-A3AB-37DC3923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97F0-FBF4-469B-9FC7-8D59275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7665E-D327-4CA9-B1B0-74F5045B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5546-F411-44CE-A835-D196EEC8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D1F16-5A5A-49E8-B96E-D85467A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AE407-1120-4E91-853E-CFBF7213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25AD-98AD-4BA6-9665-2D5CF7E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D6EC2-EFBB-4FE6-94ED-4CE6C20C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295C6-7C0D-48DF-B4B8-6A8FE443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21B6A-7D83-4494-96EF-AB937F2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B4684-0BDB-4387-84BF-96E1944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F48F-9C6A-47DB-B7F3-66DC5C4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A2196-A6B8-4C77-99AB-9253E6C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EA42A-AAFD-44BE-B713-530660E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85EE3-F918-4D56-ADB7-A246A09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2C923-C29E-4A7C-B583-B9D0EC33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BB3A7-4A7D-4545-A386-FCCC773A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9A69D-7460-4497-8721-9545AE2D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BE309-B598-4D74-B098-DDD3975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75E15-92A1-468B-839E-29F8108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7203D-411D-4B5C-85FD-4F505EE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4925B-FBFE-4317-B9E3-9D8E18D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5168-3A4E-4A60-98A6-4EE8C46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101DF-3307-42E5-A493-321B836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368AB-376D-469E-B0CD-5E77A1E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71CBD-8894-4D21-9428-0E2D503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6B9B-A826-46EB-9D6D-0C3D668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B49B0-BBFB-4020-BB50-91C16B3B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B2C5F-2A79-4EBE-B01F-262D400D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07198-4CEA-4D5F-8E64-242CD3BD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CEA70-7F31-427F-9AAB-F418A9AE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9C7C4-3ED7-4249-9DE2-395C319D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577FB-3173-49D9-93B8-0E911B9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C1C6-A45E-4A3E-A914-383CDE65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93D28-AB0A-45CF-8C58-3C3097E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60A39-4064-49ED-A124-B4C671C0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4D887-34E0-4FEC-BDF6-F395E82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F97E0-46D7-42B4-A51A-68660AA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BE1F9-6856-486C-A9D6-EAE1C8A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CA590-AB75-4713-A7D2-0880D31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EB4CB-8381-4C99-A94A-0F8DEDD1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C7B03-1B50-41DA-ADA4-83A92E8C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0F364-E6D4-40BB-85CB-EA2245BF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6E7A2-9F96-4238-8A1A-4C6342A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6678-708A-4CE5-9C74-995901E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ACE2E-EE58-4260-AD2F-C5E938FD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AABED-4AF6-4D1B-974B-B5EFA68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C70CC-7ED8-4AE0-A27E-E7B2D68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4ED72-CA12-49B1-9441-86D8BFD7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E611B-CA86-4FFB-B593-3A7D281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D9368-2F52-48FE-99AD-1E80B3D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3056F-DC94-4BEA-9284-96EDD81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7FF12-28AF-4D8F-9276-D7DEBA79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23C18-3B9B-4727-94C5-BE9FC4E8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1DD72-71E7-4996-A4E6-20C9D9FB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7EAD-8C14-4E96-9F99-3D8C408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EFDC3-8498-44C0-A31C-82FDE4DC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80D6F-0372-43D8-AA26-79F9FA39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AD455-A2EF-425E-ACCF-DBEDC6F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F6EDA-3FCB-4FED-81C7-35E4578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B7F0D-F238-4090-B036-0C96B99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5E0BB-65D3-42CD-872B-AB8AF806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B263F-0DF6-4D11-B94E-5A5E60EF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EFA66-A814-4B17-9A31-303DCF7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DCC4A-2A1D-4F74-B3C0-B843E67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3068A-1D9A-4528-B961-9D0BC99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C49B-3FBC-47C7-AC3E-844D886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58D7B-8E4E-4925-B6EA-DE470A3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FF3E9-A6B3-4FEA-A3E1-66881AEF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058F3-0E4F-472B-8A2D-F3C54C0D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85812-0C15-4F8E-A029-DCD2C06C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3CCC1-F4A5-4216-B347-854C9EF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8BA99-B7ED-48EA-AA6C-1B1A7401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9160A-1347-450D-91A0-4C843BF0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BB9EA-FB40-47D6-AB45-727D816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D277F-A4F4-4628-8512-50573D0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38FAD-1909-4A02-BD4A-55B15E8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5B9-83A7-4834-BDC1-CC04704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6D6B-F77A-42E1-AEF3-2A28BEE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52A94-46FC-4C3C-8249-48774F1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DB88E-22D1-4877-8962-E85A5BF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4BB40-3B77-4742-8CBB-6470DCAA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9512D-1028-4701-8AC9-DF5D773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D74A6-1423-40C3-AC7F-6128FFF0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A60C3-2910-4975-A354-530D96C2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58252-3B9E-4AEA-987A-565B314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985C6-48F0-4632-9734-A3A0A77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8D24E-FB6F-4E19-B904-9783839F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63FC4-88F5-4BAB-93DD-615A995F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C3D2-BEE5-43C7-B01E-1A81FB0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A6C94-2FB7-4E21-A698-AAA1928D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68CE1-3B23-4D7D-9659-AA57640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A9409-FAED-47A1-A110-07D6C3F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AB2BC-3524-4EE6-ABE2-92A8699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4E725-F62C-4E6D-92D5-611EA80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84A3A-B3A5-4CD6-96FC-21CE4921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02FFE-754B-4D03-96A7-B7504A1B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0ABBE-2EA4-4D69-BD75-AAF75E8C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82B1A-BB88-43E4-A4A6-F9A48BA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143C3-BCBB-44D9-A43B-67AA448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8C42-BC1B-445A-816D-D226634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A7562-1BA4-4A8D-87DC-29DB327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9E21C-C7A7-4513-8C4D-E40E63CD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C4884-4B6E-48BD-BE8C-0FFCAE8E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E8E53-B05C-4D43-B04D-0372D09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AC512-8AB6-404F-986F-E042EC3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9052CD-7178-42D2-95BA-F7AA337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76570-7F8B-4B47-8E47-ED30F8B0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0843F-572E-4249-B274-C0587EDF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3D6D3-A5ED-4552-AE23-EB661FB9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3BAFE-C4B9-4A21-B08B-C0E48FF9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A07-DBFF-4E09-806F-7B0C0F06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08334-8A40-46B9-BDD5-D5D1230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D4D38-4D61-4CDC-AB26-962CF267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D940B-7952-4565-A8A4-9DF0784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BFBB9-1483-4FCE-B92E-C53376C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B5C79-A057-4B50-BA7C-1AC5CA3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9AB82-3D29-4D0A-8401-6425ABA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509A9-5FD4-4401-A0A6-B6F9F52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78B72-F1F1-4F55-B726-6F9550B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EBCC0-A2D6-42F8-A2D7-7F393E4D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BA2E3-22B7-4F72-87B7-9D8C007E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14C1-ABAD-49AA-9C86-2589D03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A5DD9-EB86-4DC1-AB7A-612970A6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CEA1A-DF83-46F6-8B38-DE40E0F5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6CE87-24D5-45F1-B889-2D52714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20144-6F1E-497F-83E4-DF60641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0AC02-F4C1-4DC3-A0E0-BA3C560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9DCE5-C300-4DF2-ADB4-357DAC0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D23D8-ED8C-4318-BA35-81CC85CD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6C0FB4-928F-4359-B1C1-7073A27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477DE-8555-4649-9020-490D60CF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DE124-FFE6-401C-84EE-34DDF22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06D9-DBC7-4147-8C92-CF73E023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251F6-FC84-4B8B-9541-E33C6F73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966C5-5417-41B9-83C5-FBA03410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072E5-495A-44BE-AF3B-6F3485BD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0E250-6824-4A71-A56C-64036033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02D1F-0C21-49FA-96C3-1F3CBDB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B3723D-49A0-440A-9252-26E704E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7E9BB-A641-4339-A52E-87351B9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3ABC57-1E73-45B6-8BFC-F6BA0F3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A2072-3E66-455E-B6AB-24E6B63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95863-B829-4220-9B5A-4665113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C129-82AE-4049-832B-7274364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AA1FA-D115-4315-A740-1D7DB2E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DFA55-3022-4ACB-A687-9050D53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DC557E-8281-4CC8-BCEC-D06C75E0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F9C4FD-6826-4EA7-9197-15B82280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0DB1D-E14B-4547-AB7D-8BB62D3B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265B27-B65F-44FA-95D0-06DB63F1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9EA77-334B-4D86-8A01-0FFBA0F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59FB9-9F6C-42CD-8B2C-D174B096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67A5E1-13DF-460E-AEF8-FBD4451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D8B1F-83AD-44A7-A419-F62A333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8864-4D11-4C69-8A4E-58CAF2E6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EA6FDF-B527-44B1-B0E1-687CE59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6860AC-5BCE-45C5-AB09-ADB9CD5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1DE91-CC20-49EA-9527-FF73A71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FBFFA-A622-4190-9F6D-DC3376D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38730-C567-4570-AA50-514AD441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D27730-9315-4597-A318-A675FAA1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A3EB8-0530-41C7-869F-24D940B0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A1D9-CF22-4E12-A5B2-C6666C2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F81E-3969-45F0-8A6A-07078D24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221-88C2-464A-989C-1D508AE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7C5C-DB29-498A-91CE-EF95340F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9096-06BC-4260-AE83-A40CD23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94D1-445E-41B2-AA79-A99070C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F0A1-E608-4DD5-AF6F-817D38E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CA56-BA77-4D3F-AB41-13ECCEE1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3F52-9C25-4A7F-90EF-A12B4B2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EDF0-2713-4DDC-9472-F6A3BD6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B24A-C85F-4BB8-A176-58FEE70A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06E2-A483-4F1F-8030-67D7956B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DEEA-93B5-4090-A4B3-4C32A146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84D-FC3C-404C-BF1F-30815E08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86AD-B7A3-4879-BF61-A67D20D0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6168-EA97-4242-82C2-B700B24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51A6-ED18-483E-84FA-48A670B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E541-65D6-460D-8CDB-E8AD0AF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B707-6D21-43B1-9648-F76DCFDF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78A9-796C-412C-804E-0B5AD16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9CE4-46B3-4E51-B271-7C37967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EF88-5D0B-4DA2-BC33-88234062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83B9-FBE2-4F18-A8F7-EB2BB1D0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47B9-1970-4FA3-8594-63DE6B9B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021-BDE8-459E-9878-AE83343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98AD-F384-4E6A-ADE1-7EE41D2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AFD9-8F90-4BCD-80D3-27D80FA2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EC6A-8814-4A31-BAE5-D90E183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FF57-42DA-4C0C-9353-0250C2F6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463E-B09D-45E7-9706-ACEFCA0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D32A-147E-4F22-86A0-33B2156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DC08-A5BE-4C5C-9B61-3D77D1F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D527-EF68-424A-BEA7-3CD7764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1DB7F-0C81-49FE-B286-A0165BA8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B495-8229-4BFB-92B7-7F142930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28B-F0B9-4816-B236-DAA272D3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9435-8D92-480C-8088-A09967CA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6CB9-AADA-4E01-B486-519C80B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98D7-DA1C-4874-B4E7-4D47B349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11CC-E5FC-4FF2-8B6F-82BBDC25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552F-ABB5-4B3C-8C89-0FB06D9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14F0B-557D-4DE7-B7E0-EF0D6A63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B8E1-765E-4202-B1FA-5AA5971D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73B5-2260-40DE-AB57-9D01CCC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ACDF-6F48-4EDB-A3C3-E1D8E3F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B30C-E214-4CC0-AACA-F61B887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5B8-F28E-49C0-94E4-CBE94F9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C9D8-9FF8-4425-96F4-77094C7C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6FAA8-259B-4835-A26F-B1204BD0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870C9-E411-471B-87D5-9972190B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3AA3-F16F-45CE-A433-9865925F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DA9E-B960-47EA-A6B9-69D24F2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F28D-3B78-4C6B-A5DB-A7FC27CF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459D0-1D41-4C76-9114-966A58F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9307-6DDB-4667-9CC8-70010C0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D00D-4ADD-4EE9-BB1D-5F6910F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94E5-DAE6-4C94-B671-E438F39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864-0570-4134-A863-429B7EC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C94E-3F59-412E-9CAE-FD85E6C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595B-0A3A-49F7-84AD-ACABE75A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19FE-EEDB-471A-8F06-36366312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7794-8284-463E-A4DB-E2BA2F05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9505-E59D-491F-AC46-A4BD098D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1CA37-9445-46DD-A1B2-24DC9160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D7433-A3EC-425D-A1DE-46D62AA7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54329-DD00-48C6-A17E-35AFDFFF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F0E97-870F-405F-9D90-B8F8BE65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5034-86A5-44E7-B145-E403A54D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578-1DD2-470C-AD07-F8D6485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6CE4-ECFC-4595-A71F-4B6B852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3C8B-44DD-447B-AE32-E0C010E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E41A-902A-46EB-B22B-F0E02C4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456A-4FA3-436F-A95F-1740A4B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B0B57-6E04-49D2-83EB-BD98FEE1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6A1A-5D5B-479E-BA56-EFC2978D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FB7B-FD30-442A-AE19-14489AFC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C0E84-0754-46A6-89D7-F34AD412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034FA-6122-4682-A3CD-5D81E34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A21A9-C5EC-4441-BD6E-4AB1E8C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9BA-DE85-4F13-8476-C523441F2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76F-1F72-47FC-BC32-D4634B509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990-7197-44C7-A914-038ABFE92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8859-C247-441C-9629-F31CE3E5A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7D2-0ECF-4E1B-8138-FBE663EC6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3EF-DA2A-4486-BE54-F0777CC69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134F-9841-4A4C-8FF6-E7C251E90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092-AECA-4A38-ADF8-A1860398F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284-96F6-4975-A781-1863D06DC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990-2548-4A06-B316-9F543C74D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C714-489B-46C6-9EBA-54066D3B5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A21-6F5D-48C5-8706-F06DB64F6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DBCB-3F3B-4011-B8BB-87ABEFEBF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D87-1370-4762-A28C-66C225D2F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601F-D267-4C5B-A36C-8B256FD2E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98F-C2E3-4470-9A99-B02131395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472-7A4F-4D26-BA09-60BE5DAED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7BA-07E9-4ADE-B1B0-DABA2D972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D32-947E-4950-AF02-E1BB74419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B757-6BF1-44A9-AFAA-FD10B22C0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413-84FD-4264-ABDB-391D0559E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CDA-CC25-43C0-AD6F-62F3ECCB55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F1D8-D220-45CB-A78B-D9B373C7C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9E0-A3E4-4BB6-B974-96AC78F36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144-4254-4BAE-B7C8-A0A71770B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D24E-690D-492C-9E42-7B77ADA6B3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B70-22A8-4AA4-B495-B95649D03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FE6-D2A3-4507-86E9-6E8914823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4875-0221-4F52-B322-E2D2959CC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766-8E72-411F-8610-74FD5A7D4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849-ED45-418C-BE65-B7DFD0A5B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EA34-633B-4530-8A7F-F84DD8A89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215-821C-4F9E-8BD6-174715D2D9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529-ECBF-48FA-8053-9562AC1F81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6DC-6402-4CA1-B528-A85DEB6CC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774F-3304-4575-B819-84B0BFE47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5CB-8C4C-4A43-B9ED-BAF8EA655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025-8F03-4914-BDD4-4F2748237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441D-09C6-4A0E-B7B0-513A5E8D62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340-21D3-4AA3-A344-8AB7BB39A4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A1A7-73EB-43C7-9039-6E708BE7A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2018-B366-4FDD-81AB-AE0ACE12F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62240" y="3090960"/>
            <a:ext cx="6419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52280" y="1428840"/>
            <a:ext cx="8839440" cy="400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55720" y="263700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324080" y="226044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619280" y="226044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890800" y="262908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34476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363996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4788000" y="2629080"/>
            <a:ext cx="114444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39280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568800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6883560" y="2629080"/>
            <a:ext cx="114444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743436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7729560" y="2252520"/>
            <a:ext cx="7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4"/>
          <a:stretch/>
        </p:blipFill>
        <p:spPr>
          <a:xfrm>
            <a:off x="409680" y="3989520"/>
            <a:ext cx="2678040" cy="13683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5"/>
          <a:stretch/>
        </p:blipFill>
        <p:spPr>
          <a:xfrm>
            <a:off x="1835280" y="3616200"/>
            <a:ext cx="100800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6"/>
          <a:stretch/>
        </p:blipFill>
        <p:spPr>
          <a:xfrm>
            <a:off x="3290760" y="3990960"/>
            <a:ext cx="2678400" cy="1368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7"/>
          <a:stretch/>
        </p:blipFill>
        <p:spPr>
          <a:xfrm>
            <a:off x="4716360" y="361800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8"/>
          <a:stretch/>
        </p:blipFill>
        <p:spPr>
          <a:xfrm>
            <a:off x="6184800" y="3990960"/>
            <a:ext cx="2678040" cy="1368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19"/>
          <a:stretch/>
        </p:blipFill>
        <p:spPr>
          <a:xfrm>
            <a:off x="7610400" y="3618000"/>
            <a:ext cx="100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318960" y="1133640"/>
            <a:ext cx="8506080" cy="4590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282760" y="1916280"/>
            <a:ext cx="1209600" cy="1152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72436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6531120" y="1916280"/>
            <a:ext cx="1209600" cy="115236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7174" descr=""/>
          <p:cNvPicPr/>
          <p:nvPr/>
        </p:nvPicPr>
        <p:blipFill>
          <a:blip r:embed="rId6"/>
          <a:stretch/>
        </p:blipFill>
        <p:spPr>
          <a:xfrm>
            <a:off x="606600" y="4095720"/>
            <a:ext cx="82864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743040" y="2352600"/>
            <a:ext cx="7657920" cy="2152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042920" y="3559320"/>
            <a:ext cx="417672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116000" y="3962520"/>
            <a:ext cx="4176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1:0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